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3FA1-531F-42C3-AC3B-8A86C68C5FB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6E4AA-BC0E-4E02-9240-F89627C81A13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A74A4-8D09-42D4-9796-A8D18F7CA3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001D2-87E9-4032-9C21-5980FBAE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E8CE5-6E7C-41AD-9707-52AEBCE2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7D2B7-C76B-47DA-9320-AFDF6E91A0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24D3A-E9BA-4FBD-A0B4-68D97CBC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107CC-C1D7-4F95-A35B-75698F7D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B9898-DB43-4E3D-9C51-443D742A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CE2C8-1808-47C6-9A87-0CE5FB890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2B2F5-0EFE-40A0-B994-60C3FCFD7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AF89A-1CB8-4925-8749-8C1DA365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D5A50-6A3D-4267-BBB4-1A24B991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0AAA3-6925-4303-940A-F7CA1076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3FDA-4904-4A69-B0AD-2E0EF015B0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九节  恶心与呕吐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04560" y="1214280"/>
            <a:ext cx="85532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相关的既往病史与个人史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消化性溃疡、肝硬化、腹部手术、晕车晕船等相关病史及用药史，女性患者的月经史、婚育史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处理情况 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呕吐后有无采取相应的处理措施及其效果等，包括诊断、治疗的经过、相关的辅助检查结果等。 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一般状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生命体征、意识状态、营养状态、皮肤弹性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腹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若怀疑消化系统疾病，则应注意腹部的评估，特别是腹式呼吸运动、胃肠型及蠕动波、腹膜刺激征、移动性浊音、肾区叩击痛、肠鸣音等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其它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注意心率、心音强度有无变化，有无肌力减退、生理反射减弱、病理反射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他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常规、肝功能、肾功能、酸碱平衡及电解质检查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X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线钡餐、胃镜、腹部 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超、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CT 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04560" y="1214280"/>
            <a:ext cx="848196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隶书"/>
              </a:rPr>
              <a:t>舒适度减弱  </a:t>
            </a:r>
            <a:r>
              <a:rPr b="0" lang="zh-CN" sz="3200" spc="-1" strike="noStrike">
                <a:solidFill>
                  <a:srgbClr val="990033"/>
                </a:solidFill>
                <a:latin typeface="Verdana"/>
                <a:ea typeface="隶书"/>
              </a:rPr>
              <a:t>与急性胃肠炎导致的频繁呕吐有关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隶书"/>
              </a:rPr>
              <a:t>体液不足或有体液不足的危险  </a:t>
            </a:r>
            <a:r>
              <a:rPr b="0" lang="zh-CN" sz="3200" spc="-1" strike="noStrike">
                <a:solidFill>
                  <a:srgbClr val="990033"/>
                </a:solidFill>
                <a:latin typeface="Verdana"/>
                <a:ea typeface="隶书"/>
              </a:rPr>
              <a:t>与呕吐引起体液丢失、摄入量不足有关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隶书"/>
              </a:rPr>
              <a:t>营养失调：低于机体需要量   </a:t>
            </a:r>
            <a:r>
              <a:rPr b="0" lang="zh-CN" sz="3200" spc="-1" strike="noStrike">
                <a:solidFill>
                  <a:srgbClr val="990033"/>
                </a:solidFill>
                <a:latin typeface="Verdana"/>
                <a:ea typeface="隶书"/>
              </a:rPr>
              <a:t>与长期频繁呕吐和食物摄入量不足有关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隶书"/>
              </a:rPr>
              <a:t>潜在并发症：窒息   </a:t>
            </a:r>
            <a:r>
              <a:rPr b="0" lang="zh-CN" sz="3200" spc="-1" strike="noStrike">
                <a:solidFill>
                  <a:srgbClr val="990033"/>
                </a:solidFill>
                <a:latin typeface="Verdana"/>
                <a:ea typeface="隶书"/>
              </a:rPr>
              <a:t>与呕吐物误吸入肺内有关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恶心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为上腹部不适和紧迫欲吐的感觉，可伴有迷走神经兴奋的症状，如皮肤苍白、出汗、流涎、血压降低及心动过缓等，常为呕吐的先兆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呕吐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通过胃的强烈收缩迫使胃或部分小肠的内容物经食管、口腔而排出体外的现象</a:t>
            </a: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宋体"/>
              </a:rPr>
              <a:t>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8" name="组合 47"/>
          <p:cNvGrpSpPr/>
          <p:nvPr/>
        </p:nvGrpSpPr>
        <p:grpSpPr>
          <a:xfrm>
            <a:off x="571680" y="1714680"/>
            <a:ext cx="7929360" cy="3803400"/>
            <a:chOff x="571680" y="1714680"/>
            <a:chExt cx="7929360" cy="3803400"/>
          </a:xfrm>
        </p:grpSpPr>
        <p:grpSp>
          <p:nvGrpSpPr>
            <p:cNvPr id="119" name="组合 41"/>
            <p:cNvGrpSpPr/>
            <p:nvPr/>
          </p:nvGrpSpPr>
          <p:grpSpPr>
            <a:xfrm>
              <a:off x="571680" y="1714680"/>
              <a:ext cx="7929360" cy="3803400"/>
              <a:chOff x="571680" y="1714680"/>
              <a:chExt cx="7929360" cy="3803400"/>
            </a:xfrm>
          </p:grpSpPr>
          <p:sp>
            <p:nvSpPr>
              <p:cNvPr id="120" name="Rectangle 6"/>
              <p:cNvSpPr/>
              <p:nvPr/>
            </p:nvSpPr>
            <p:spPr>
              <a:xfrm>
                <a:off x="2786040" y="2428920"/>
                <a:ext cx="2214360" cy="356760"/>
              </a:xfrm>
              <a:prstGeom prst="rect">
                <a:avLst/>
              </a:prstGeom>
              <a:noFill/>
              <a:ln w="284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99"/>
                    </a:solidFill>
                    <a:latin typeface="Arial"/>
                    <a:ea typeface="华文新魏"/>
                  </a:rPr>
                  <a:t>血液的化学性刺激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3071880" y="4214520"/>
                <a:ext cx="1643040" cy="37476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神经反射中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cxnSp>
            <p:nvCxnSpPr>
              <p:cNvPr id="122" name="AutoShape 19"/>
              <p:cNvCxnSpPr/>
              <p:nvPr/>
            </p:nvCxnSpPr>
            <p:spPr>
              <a:xfrm flipH="1">
                <a:off x="3857400" y="4643280"/>
                <a:ext cx="2160" cy="500400"/>
              </a:xfrm>
              <a:prstGeom prst="straightConnector1">
                <a:avLst/>
              </a:prstGeom>
              <a:ln w="28440">
                <a:solidFill>
                  <a:srgbClr val="6600cc"/>
                </a:solidFill>
                <a:miter/>
                <a:tailEnd len="med" type="triangle" w="med"/>
              </a:ln>
            </p:spPr>
          </p:cxnSp>
          <p:sp>
            <p:nvSpPr>
              <p:cNvPr id="123" name="Rectangle 8"/>
              <p:cNvSpPr/>
              <p:nvPr/>
            </p:nvSpPr>
            <p:spPr>
              <a:xfrm>
                <a:off x="3286080" y="5143320"/>
                <a:ext cx="1182960" cy="37476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呕吐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4" name="线形标注 2 21"/>
              <p:cNvSpPr/>
              <p:nvPr/>
            </p:nvSpPr>
            <p:spPr>
              <a:xfrm>
                <a:off x="6143760" y="1714680"/>
                <a:ext cx="2357280" cy="785520"/>
              </a:xfrm>
              <a:prstGeom prst="borderCallout2">
                <a:avLst>
                  <a:gd name="adj1" fmla="val 18750"/>
                  <a:gd name="adj2" fmla="val -8333"/>
                  <a:gd name="adj3" fmla="val 18518"/>
                  <a:gd name="adj4" fmla="val -16666"/>
                  <a:gd name="adj5" fmla="val 113425"/>
                  <a:gd name="adj6" fmla="val -46296"/>
                </a:avLst>
              </a:prstGeom>
              <a:solidFill>
                <a:srgbClr val="ffffff"/>
              </a:solidFill>
              <a:ln w="25560">
                <a:solidFill>
                  <a:srgbClr val="6492a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如外源的化学性物质、药物、内生代谢产物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cxnSp>
            <p:nvCxnSpPr>
              <p:cNvPr id="125" name="AutoShape 19"/>
              <p:cNvCxnSpPr/>
              <p:nvPr/>
            </p:nvCxnSpPr>
            <p:spPr>
              <a:xfrm flipH="1">
                <a:off x="3856680" y="2786760"/>
                <a:ext cx="2160" cy="1429200"/>
              </a:xfrm>
              <a:prstGeom prst="straightConnector1">
                <a:avLst/>
              </a:prstGeom>
              <a:ln w="28440">
                <a:solidFill>
                  <a:srgbClr val="6600cc"/>
                </a:solidFill>
                <a:miter/>
                <a:tailEnd len="med" type="triangle" w="med"/>
              </a:ln>
            </p:spPr>
          </p:cxnSp>
          <p:sp>
            <p:nvSpPr>
              <p:cNvPr id="126" name="Rectangle 8"/>
              <p:cNvSpPr/>
              <p:nvPr/>
            </p:nvSpPr>
            <p:spPr>
              <a:xfrm>
                <a:off x="5357880" y="2714400"/>
                <a:ext cx="1214280" cy="999720"/>
              </a:xfrm>
              <a:prstGeom prst="rect">
                <a:avLst/>
              </a:prstGeom>
              <a:noFill/>
              <a:ln w="2844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迷走神经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内耳前庭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990033"/>
                    </a:solidFill>
                    <a:latin typeface="Arial"/>
                    <a:ea typeface="华文新魏"/>
                  </a:rPr>
                  <a:t>大脑皮质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27" name="组合 40"/>
              <p:cNvGrpSpPr/>
              <p:nvPr/>
            </p:nvGrpSpPr>
            <p:grpSpPr>
              <a:xfrm>
                <a:off x="571680" y="3500280"/>
                <a:ext cx="7000920" cy="1089000"/>
                <a:chOff x="571680" y="3500280"/>
                <a:chExt cx="7000920" cy="1089000"/>
              </a:xfrm>
            </p:grpSpPr>
            <p:sp>
              <p:nvSpPr>
                <p:cNvPr id="128" name="Rectangle 6"/>
                <p:cNvSpPr/>
                <p:nvPr/>
              </p:nvSpPr>
              <p:spPr>
                <a:xfrm>
                  <a:off x="571680" y="4214520"/>
                  <a:ext cx="2214360" cy="357120"/>
                </a:xfrm>
                <a:prstGeom prst="rect">
                  <a:avLst/>
                </a:prstGeom>
                <a:noFill/>
                <a:ln w="2844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Arial"/>
                      <a:ea typeface="华文新魏"/>
                    </a:rPr>
                    <a:t>化学感受器触发带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29" name="TextBox 30"/>
                <p:cNvSpPr/>
                <p:nvPr/>
              </p:nvSpPr>
              <p:spPr>
                <a:xfrm>
                  <a:off x="2786040" y="4214520"/>
                  <a:ext cx="2854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46ca6"/>
                      </a:solidFill>
                      <a:latin typeface="Arial"/>
                    </a:rPr>
                    <a:t>+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cxnSp>
              <p:nvCxnSpPr>
                <p:cNvPr id="130" name="AutoShape 19"/>
                <p:cNvCxnSpPr/>
                <p:nvPr/>
              </p:nvCxnSpPr>
              <p:spPr>
                <a:xfrm>
                  <a:off x="4786200" y="4427280"/>
                  <a:ext cx="570600" cy="2160"/>
                </a:xfrm>
                <a:prstGeom prst="straightConnector1">
                  <a:avLst/>
                </a:prstGeom>
                <a:ln w="28440">
                  <a:solidFill>
                    <a:srgbClr val="6600cc"/>
                  </a:solidFill>
                  <a:miter/>
                  <a:tailEnd len="med" type="triangle" w="med"/>
                </a:ln>
              </p:spPr>
            </p:cxnSp>
            <p:sp>
              <p:nvSpPr>
                <p:cNvPr id="131" name="Rectangle 8"/>
                <p:cNvSpPr/>
                <p:nvPr/>
              </p:nvSpPr>
              <p:spPr>
                <a:xfrm>
                  <a:off x="5429520" y="4214520"/>
                  <a:ext cx="2143080" cy="374760"/>
                </a:xfrm>
                <a:prstGeom prst="rect">
                  <a:avLst/>
                </a:prstGeom>
                <a:noFill/>
                <a:ln w="2844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呕吐中枢（延髓）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32" name="上弧形箭头 35"/>
                <p:cNvSpPr/>
                <p:nvPr/>
              </p:nvSpPr>
              <p:spPr>
                <a:xfrm>
                  <a:off x="2143080" y="3857400"/>
                  <a:ext cx="1285920" cy="285480"/>
                </a:xfrm>
                <a:custGeom>
                  <a:avLst/>
                  <a:gdLst>
                    <a:gd name="textAreaLeft" fmla="*/ 294480 w 1285920"/>
                    <a:gd name="textAreaRight" fmla="*/ 955440 w 1285920"/>
                    <a:gd name="textAreaTop" fmla="*/ 38160 h 285480"/>
                    <a:gd name="textAreaBottom" fmla="*/ 247320 h 285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21600"/>
                      </a:moveTo>
                      <a:arcTo wR="9900" hR="21600" stAng="10800000" swAng="5400000"/>
                      <a:lnTo>
                        <a:pt x="11100" y="0"/>
                      </a:lnTo>
                      <a:arcTo wR="9900" hR="21600" stAng="-5400000" swAng="3636334"/>
                      <a:lnTo>
                        <a:pt x="21286" y="16200"/>
                      </a:lnTo>
                      <a:lnTo>
                        <a:pt x="20400" y="21600"/>
                      </a:lnTo>
                      <a:lnTo>
                        <a:pt x="18886" y="16200"/>
                      </a:lnTo>
                      <a:lnTo>
                        <a:pt x="19486" y="16200"/>
                      </a:lnTo>
                      <a:arcTo wR="9900" hR="21600" stAng="-1763666" swAng="-3540690"/>
                      <a:lnTo>
                        <a:pt x="10500" y="40"/>
                      </a:lnTo>
                      <a:arcTo wR="9900" hR="21600" stAng="-5495644" swAng="-5304356"/>
                      <a:close/>
                    </a:path>
                    <a:path fill="darkenLess" w="21600" h="21600">
                      <a:moveTo>
                        <a:pt x="0" y="21600"/>
                      </a:moveTo>
                      <a:arcTo wR="9900" hR="21600" stAng="10800000" swAng="5400000"/>
                      <a:lnTo>
                        <a:pt x="9900" y="0"/>
                      </a:lnTo>
                      <a:arcTo wR="9900" hR="21600" stAng="-5400000" swAng="95644"/>
                      <a:lnTo>
                        <a:pt x="10500" y="40"/>
                      </a:lnTo>
                      <a:arcTo wR="9900" hR="21600" stAng="-5495644" swAng="-5304356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6492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33" name="TextBox 36"/>
                <p:cNvSpPr/>
                <p:nvPr/>
              </p:nvSpPr>
              <p:spPr>
                <a:xfrm>
                  <a:off x="2428920" y="3500280"/>
                  <a:ext cx="9284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990033"/>
                      </a:solidFill>
                      <a:latin typeface="Arial"/>
                      <a:ea typeface="华文新魏"/>
                    </a:rPr>
                    <a:t>刺激</a:t>
                  </a:r>
                  <a:endParaRPr b="0" lang="en-US" sz="20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cxnSp>
              <p:nvCxnSpPr>
                <p:cNvPr id="134" name="AutoShape 19"/>
                <p:cNvCxnSpPr/>
                <p:nvPr/>
              </p:nvCxnSpPr>
              <p:spPr>
                <a:xfrm flipH="1">
                  <a:off x="4785840" y="3714120"/>
                  <a:ext cx="500760" cy="500760"/>
                </a:xfrm>
                <a:prstGeom prst="straightConnector1">
                  <a:avLst/>
                </a:prstGeom>
                <a:ln w="28440">
                  <a:solidFill>
                    <a:srgbClr val="6600cc"/>
                  </a:solidFill>
                  <a:miter/>
                  <a:tailEnd len="med" type="triangle" w="med"/>
                </a:ln>
              </p:spPr>
            </p:cxnSp>
          </p:grpSp>
        </p:grpSp>
        <p:sp>
          <p:nvSpPr>
            <p:cNvPr id="135" name="TextBox 45"/>
            <p:cNvSpPr/>
            <p:nvPr/>
          </p:nvSpPr>
          <p:spPr>
            <a:xfrm rot="2668800">
              <a:off x="4786200" y="3701880"/>
              <a:ext cx="9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传入冲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TextBox 46"/>
            <p:cNvSpPr/>
            <p:nvPr/>
          </p:nvSpPr>
          <p:spPr>
            <a:xfrm>
              <a:off x="3500640" y="3071880"/>
              <a:ext cx="714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传入冲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呕吐过程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分为恶心、干呕和呕吐 </a:t>
            </a:r>
            <a:r>
              <a:rPr b="0" lang="en-US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3 </a:t>
            </a: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个阶段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但有时可无恶心或干呕的先兆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0" name="Picture 2" descr="C:\Documents and Settings\Administrator\Application Data\360se6\Application\User Data\temp\u=4231522676,1839925651&amp;fm=21&amp;gp=0.jpg"/>
          <p:cNvPicPr/>
          <p:nvPr/>
        </p:nvPicPr>
        <p:blipFill>
          <a:blip r:embed="rId1"/>
          <a:stretch/>
        </p:blipFill>
        <p:spPr>
          <a:xfrm>
            <a:off x="493560" y="3419640"/>
            <a:ext cx="2005200" cy="3493800"/>
          </a:xfrm>
          <a:prstGeom prst="rect">
            <a:avLst/>
          </a:prstGeom>
          <a:ln w="0">
            <a:noFill/>
          </a:ln>
        </p:spPr>
      </p:pic>
      <p:grpSp>
        <p:nvGrpSpPr>
          <p:cNvPr id="141" name="组合 25"/>
          <p:cNvGrpSpPr/>
          <p:nvPr/>
        </p:nvGrpSpPr>
        <p:grpSpPr>
          <a:xfrm>
            <a:off x="1585800" y="3456000"/>
            <a:ext cx="3571920" cy="2633040"/>
            <a:chOff x="1585800" y="3456000"/>
            <a:chExt cx="3571920" cy="2633040"/>
          </a:xfrm>
        </p:grpSpPr>
        <p:sp>
          <p:nvSpPr>
            <p:cNvPr id="142" name="Rectangle 6"/>
            <p:cNvSpPr/>
            <p:nvPr/>
          </p:nvSpPr>
          <p:spPr>
            <a:xfrm>
              <a:off x="2943000" y="3456000"/>
              <a:ext cx="1714680" cy="642960"/>
            </a:xfrm>
            <a:prstGeom prst="rect">
              <a:avLst/>
            </a:prstGeom>
            <a:noFill/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胃窦部收缩致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幽门关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3157560" y="4599000"/>
              <a:ext cx="1285920" cy="374760"/>
            </a:xfrm>
            <a:prstGeom prst="rect">
              <a:avLst/>
            </a:prstGeom>
            <a:noFill/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胃逆蠕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44" name="AutoShape 19"/>
            <p:cNvCxnSpPr>
              <a:endCxn id="143" idx="0"/>
            </p:cNvCxnSpPr>
            <p:nvPr/>
          </p:nvCxnSpPr>
          <p:spPr>
            <a:xfrm flipH="1">
              <a:off x="3800160" y="4098600"/>
              <a:ext cx="2160" cy="5007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45" name="Rectangle 8"/>
            <p:cNvSpPr/>
            <p:nvPr/>
          </p:nvSpPr>
          <p:spPr>
            <a:xfrm>
              <a:off x="3157560" y="5528160"/>
              <a:ext cx="1285920" cy="374760"/>
            </a:xfrm>
            <a:prstGeom prst="rect">
              <a:avLst/>
            </a:prstGeom>
            <a:noFill/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贲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46" name="AutoShape 19"/>
            <p:cNvCxnSpPr/>
            <p:nvPr/>
          </p:nvCxnSpPr>
          <p:spPr>
            <a:xfrm flipH="1">
              <a:off x="3800160" y="5027400"/>
              <a:ext cx="2160" cy="5007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47" name="TextBox 16"/>
            <p:cNvSpPr/>
            <p:nvPr/>
          </p:nvSpPr>
          <p:spPr>
            <a:xfrm>
              <a:off x="1585800" y="5456520"/>
              <a:ext cx="107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99"/>
                  </a:solidFill>
                  <a:latin typeface="Arial"/>
                  <a:ea typeface="华文新魏"/>
                </a:rPr>
                <a:t>呕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48" name="AutoShape 19"/>
            <p:cNvCxnSpPr/>
            <p:nvPr/>
          </p:nvCxnSpPr>
          <p:spPr>
            <a:xfrm flipH="1" flipV="1">
              <a:off x="2371320" y="5742000"/>
              <a:ext cx="714960" cy="21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49" name="TextBox 20"/>
            <p:cNvSpPr/>
            <p:nvPr/>
          </p:nvSpPr>
          <p:spPr>
            <a:xfrm>
              <a:off x="2514240" y="5385240"/>
              <a:ext cx="214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开放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0" name="AutoShape 19"/>
            <p:cNvCxnSpPr/>
            <p:nvPr/>
          </p:nvCxnSpPr>
          <p:spPr>
            <a:xfrm flipV="1">
              <a:off x="4514760" y="5742000"/>
              <a:ext cx="643320" cy="2160"/>
            </a:xfrm>
            <a:prstGeom prst="straightConnector1">
              <a:avLst/>
            </a:prstGeom>
            <a:ln w="28440">
              <a:solidFill>
                <a:srgbClr val="6600cc"/>
              </a:solidFill>
              <a:miter/>
              <a:tailEnd len="med" type="triangle" w="med"/>
            </a:ln>
          </p:spPr>
        </p:cxnSp>
        <p:sp>
          <p:nvSpPr>
            <p:cNvPr id="151" name="TextBox 23"/>
            <p:cNvSpPr/>
            <p:nvPr/>
          </p:nvSpPr>
          <p:spPr>
            <a:xfrm>
              <a:off x="4586400" y="5385240"/>
              <a:ext cx="35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未开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2" name="TextBox 24"/>
          <p:cNvSpPr/>
          <p:nvPr/>
        </p:nvSpPr>
        <p:spPr>
          <a:xfrm>
            <a:off x="5157720" y="54561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华文新魏"/>
              </a:rPr>
              <a:t>恶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3" name="圆角矩形 1"/>
          <p:cNvGrpSpPr/>
          <p:nvPr/>
        </p:nvGrpSpPr>
        <p:grpSpPr>
          <a:xfrm>
            <a:off x="5499000" y="3492360"/>
            <a:ext cx="3071880" cy="1506600"/>
            <a:chOff x="5499000" y="3492360"/>
            <a:chExt cx="3071880" cy="1506600"/>
          </a:xfrm>
        </p:grpSpPr>
        <p:pic>
          <p:nvPicPr>
            <p:cNvPr id="154" name="圆角矩形 1" descr=""/>
            <p:cNvPicPr/>
            <p:nvPr/>
          </p:nvPicPr>
          <p:blipFill>
            <a:blip r:embed="rId2"/>
            <a:stretch/>
          </p:blipFill>
          <p:spPr>
            <a:xfrm>
              <a:off x="5499000" y="3492360"/>
              <a:ext cx="3071880" cy="150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645160" y="3591000"/>
              <a:ext cx="28065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Verdana"/>
                  <a:ea typeface="华文新魏"/>
                </a:rPr>
                <a:t>恶心与呕吐的区别在于呕吐中枢接受的冲动轻度不同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反射性呕吐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来自内脏末梢神经的冲动            呕吐中枢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咽部受到刺激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胃、十二指肠疾病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肠道疾病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肝胆胰疾病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腹膜及肠系膜疾病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其他疾病：如急性心肌梗死早期、心力衰竭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59" name="AutoShape 19"/>
          <p:cNvCxnSpPr/>
          <p:nvPr/>
        </p:nvCxnSpPr>
        <p:spPr>
          <a:xfrm>
            <a:off x="5214600" y="2499840"/>
            <a:ext cx="1857960" cy="252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sp>
        <p:nvSpPr>
          <p:cNvPr id="160" name="TextBox 7"/>
          <p:cNvSpPr/>
          <p:nvPr/>
        </p:nvSpPr>
        <p:spPr>
          <a:xfrm>
            <a:off x="-1071720" y="10717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Box 10"/>
          <p:cNvSpPr/>
          <p:nvPr/>
        </p:nvSpPr>
        <p:spPr>
          <a:xfrm>
            <a:off x="5429160" y="2143080"/>
            <a:ext cx="121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自主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传入纤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常见原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中枢性呕吐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来自中枢神经系统或化学感受器的冲动  呕吐中枢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神经系统疾病：颅内感染、脑血管疾病、颅脑损伤、癫痫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全身性疾病：尿毒症、肝昏迷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药物：某些抗生素、抗肿瘤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中毒：乙醇、重金属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65" name="AutoShape 19"/>
          <p:cNvCxnSpPr/>
          <p:nvPr/>
        </p:nvCxnSpPr>
        <p:spPr>
          <a:xfrm>
            <a:off x="7215120" y="2499840"/>
            <a:ext cx="215280" cy="252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常见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前庭障碍性呕吐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 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常见疾病有晕动病、梅尼埃病、迷路炎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凡呕吐伴有听力障碍、眩晕等耳科症状者，需考虑前庭障碍性呕吐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2" descr="C:\Documents and Settings\Administrator\Application Data\360se6\Application\User Data\temp\u=3631593113,1277869079&amp;fm=21&amp;gp=0.jpg"/>
          <p:cNvPicPr/>
          <p:nvPr/>
        </p:nvPicPr>
        <p:blipFill>
          <a:blip r:embed="rId1"/>
          <a:stretch/>
        </p:blipFill>
        <p:spPr>
          <a:xfrm>
            <a:off x="5430960" y="3859200"/>
            <a:ext cx="2377800" cy="1792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:\Documents and Settings\Administrator\Application Data\360se6\Application\User Data\temp\u=3624753639,3498494534&amp;fm=21&amp;gp=0.jpg"/>
          <p:cNvPicPr/>
          <p:nvPr/>
        </p:nvPicPr>
        <p:blipFill>
          <a:blip r:embed="rId2"/>
          <a:stretch/>
        </p:blipFill>
        <p:spPr>
          <a:xfrm>
            <a:off x="1359000" y="3786120"/>
            <a:ext cx="283500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呕吐的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包括起病的急缓，有无诱因，呕吐的时间，呕吐物的特征及呕吐物性状、气味、量，是否有胆汁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和体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腹痛、腹泻  急性胃肠炎或细菌性食物中毒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右上腹痛及发热、寒战或黄疸</a:t>
            </a:r>
            <a:r>
              <a:rPr b="0" lang="en-US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   </a:t>
            </a: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胆囊炎或胆石症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头痛及喷射性呕吐  颅内高压症或青光眼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眩晕、眼球震颤  前庭器官疾病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74" name="AutoShape 19"/>
          <p:cNvCxnSpPr/>
          <p:nvPr/>
        </p:nvCxnSpPr>
        <p:spPr>
          <a:xfrm>
            <a:off x="5928840" y="4357800"/>
            <a:ext cx="35820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75" name="AutoShape 19"/>
          <p:cNvCxnSpPr/>
          <p:nvPr/>
        </p:nvCxnSpPr>
        <p:spPr>
          <a:xfrm>
            <a:off x="3214800" y="3929040"/>
            <a:ext cx="35784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76" name="AutoShape 19"/>
          <p:cNvCxnSpPr/>
          <p:nvPr/>
        </p:nvCxnSpPr>
        <p:spPr>
          <a:xfrm>
            <a:off x="4214880" y="4857840"/>
            <a:ext cx="35784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77" name="AutoShape 19"/>
          <p:cNvCxnSpPr/>
          <p:nvPr/>
        </p:nvCxnSpPr>
        <p:spPr>
          <a:xfrm>
            <a:off x="3857760" y="5357880"/>
            <a:ext cx="35784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04920" y="1214280"/>
            <a:ext cx="826776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对患者的影响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大量水和电解质的丢失   脱水、低血氯、低血钾、代谢性碱中毒等水、电解质及酸碱平衡紊乱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呕吐物中的酸性物质   牙齿造成腐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营养不良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婴幼儿、可老年人及有意识障碍者   误吸而致窒息或肺部感染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81" name="AutoShape 19"/>
          <p:cNvCxnSpPr/>
          <p:nvPr/>
        </p:nvCxnSpPr>
        <p:spPr>
          <a:xfrm>
            <a:off x="4857840" y="2571840"/>
            <a:ext cx="35784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82" name="AutoShape 19"/>
          <p:cNvCxnSpPr/>
          <p:nvPr/>
        </p:nvCxnSpPr>
        <p:spPr>
          <a:xfrm>
            <a:off x="4572000" y="3429000"/>
            <a:ext cx="35784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  <p:cxnSp>
        <p:nvCxnSpPr>
          <p:cNvPr id="183" name="AutoShape 19"/>
          <p:cNvCxnSpPr/>
          <p:nvPr/>
        </p:nvCxnSpPr>
        <p:spPr>
          <a:xfrm>
            <a:off x="6500880" y="4357800"/>
            <a:ext cx="357840" cy="2160"/>
          </a:xfrm>
          <a:prstGeom prst="straightConnector1">
            <a:avLst/>
          </a:prstGeom>
          <a:ln w="28440">
            <a:solidFill>
              <a:srgbClr val="66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33:15Z</dcterms:modified>
  <cp:revision>17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